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4BF-A245-4B15-AF16-DE6BAE1C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539-0113-4966-BCAF-FFA8C11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F36-07C2-44E8-8332-B47E64D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ABF-BE04-4CD8-BCBE-1E5979D9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821-4818-45A7-A073-725A4258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D8D-EA80-4257-9801-B4C1721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969-D344-49B9-BCDD-CF0AD4C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D8A-79C2-49A9-BBF6-A365B79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2A6-C41C-4F13-866D-F326A0DE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D16-69B6-44A2-86C7-E4DB6A5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2B1-8ECC-4B28-B8F2-4EFEBCD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345-B793-42A2-B5BA-D0C7C84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7AF7-99F6-4EC6-8D69-85CF0FF76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ipa.co.il/ask/show/120744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2213" t="54929" r="27849" b="22439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ברכת החמ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72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בכל שנת חמה י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4+3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ימ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9280" y="227664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אם רוצים לדע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כמה שבועות יש בשנת חמ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חלקים מספר הימים בשנה לימי השבו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5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700280"/>
            <a:ext cx="8964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תוצאה: 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ושארית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משפט הנכו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18900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משימה שני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157720"/>
            <a:ext cx="535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א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יום ורב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ב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יומיים ורב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ג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יום ורב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ד. בכל שנת חמה י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שבועות ועוד רבע יו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שליש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לפי זה יוצא שההפרש (בתוך ימי השבוע) בין שנת חמה אחת לחברתה,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הוא יום ורבע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ולכן השנה יכולה להתחיל ב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בוקר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צהרי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ערב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בלי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רביע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כל שנה יש ארבעה תקופו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1700280"/>
            <a:ext cx="4824360" cy="48243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6108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ניס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447840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תשר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437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טב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5080" y="2492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קופת תמו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73360"/>
            <a:ext cx="3600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חודש הקרוב שבו תהיה ברכת החמה הוא חוד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. ניס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ב. תמו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ג. תשר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ד. טב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52720" y="691920"/>
            <a:ext cx="960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משימה חמישית</a:t>
            </a:r>
            <a:br>
              <a:rPr sz="54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ברכת החמ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היא כאשר </a:t>
            </a:r>
            <a:br>
              <a:rPr sz="3600"/>
            </a:b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תקופת ניסן (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חילת שנה, שהרי ניסן "ראשון לחודשי שנה")</a:t>
            </a:r>
            <a:br>
              <a:rPr sz="3600"/>
            </a:b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מתחילה ביום ד' בשבוע (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שבו נבראה השמ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בשעה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בבוקר (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תחילת היום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כמו בבריאת העול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63640" y="6308640"/>
            <a:ext cx="35593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הפגימה בשמש מסיבות הלכתיות, רא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קישו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70674" t="18512" r="18997" b="68711"/>
          <a:stretch/>
        </p:blipFill>
        <p:spPr>
          <a:xfrm>
            <a:off x="179280" y="3192480"/>
            <a:ext cx="3672000" cy="3405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47640" y="5229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3357720"/>
            <a:ext cx="4174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ז מברכים על השמ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. "שעשה את השמש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ב. "עושה מעשה בראשית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ג. "המוציא לחם מן הארץ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ד. "שברא עולם ומלואו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תי תהיה ברכת חמ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ד' ניסן תשמ"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08360" y="112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"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ה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ה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Narkisim"/>
              </a:rPr>
              <a:t>מהי ברכת החמה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20" y="22856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Narkis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773360"/>
            <a:ext cx="1800360" cy="865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התח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על השמ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19440" y="2419200"/>
            <a:ext cx="4187880" cy="443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ח אדר 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מ"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ג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"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ג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ד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ד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רוכים הבא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וראות הפע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פניך מספר משימו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צע את המשימות לפי ההורא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מטרה: להגיע לשקופית הסיום בתוך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דק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חץ רק בכפתורים המתאימי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חיצה במקום שאינו מתאים תאלץ אותך להתחיל מהתח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116000" y="981000"/>
            <a:ext cx="1600200" cy="13716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50000">
                <a:srgbClr val="00ff00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כא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התח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ח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א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ב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נ"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ב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"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ו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טז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ח אדר 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שגיאה בלחיצ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כמה פעמים צריך לומר לך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א ללחוץ מחוץ למסגרת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ליך להתחיל מהתחל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1447920" y="5105520"/>
            <a:ext cx="1600200" cy="1371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כא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27"/>
          <a:srcRect l="57588" t="51976" r="32275" b="33273"/>
          <a:stretch/>
        </p:blipFill>
        <p:spPr>
          <a:xfrm>
            <a:off x="67327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8184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תקופת ניסן בשנת תשס"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ג ני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>
            <a:off x="378000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7"/>
          <a:srcRect l="57588" t="51976" r="32275" b="33273"/>
          <a:stretch/>
        </p:blipFill>
        <p:spPr>
          <a:xfrm>
            <a:off x="67327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68184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8"/>
          <a:srcRect l="57588" t="51976" r="32275" b="33273"/>
          <a:stretch/>
        </p:blipFill>
        <p:spPr>
          <a:xfrm>
            <a:off x="5710320" y="53020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5796000" y="55897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rcRect l="57588" t="51976" r="32275" b="33273"/>
          <a:stretch/>
        </p:blipFill>
        <p:spPr>
          <a:xfrm>
            <a:off x="3693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תקופת ניסן בשנת תשס"ט - ברכת חמ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ב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חמ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ביע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"ד ניסן תשס"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ליש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ש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ום ראש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תי חלה התקופ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בוק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צה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ער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בלי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"/>
          <p:cNvSpPr/>
          <p:nvPr/>
        </p:nvSpPr>
        <p:spPr>
          <a:xfrm>
            <a:off x="3635280" y="2781360"/>
            <a:ext cx="72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2"/>
          <a:srcRect l="57588" t="51976" r="32275" b="33273"/>
          <a:stretch/>
        </p:blipFill>
        <p:spPr>
          <a:xfrm>
            <a:off x="2698920" y="342900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2784600" y="371628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3"/>
          <a:srcRect l="57588" t="51976" r="32275" b="33273"/>
          <a:stretch/>
        </p:blipFill>
        <p:spPr>
          <a:xfrm>
            <a:off x="161928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70496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rcRect l="57588" t="51976" r="32275" b="33273"/>
          <a:stretch/>
        </p:blipFill>
        <p:spPr>
          <a:xfrm>
            <a:off x="611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6969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5"/>
          <a:srcRect l="57588" t="51976" r="32275" b="33273"/>
          <a:stretch/>
        </p:blipFill>
        <p:spPr>
          <a:xfrm>
            <a:off x="565164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573732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6"/>
          <a:srcRect l="57588" t="51976" r="32275" b="33273"/>
          <a:stretch/>
        </p:blipFill>
        <p:spPr>
          <a:xfrm>
            <a:off x="4643280" y="35002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4729320" y="378792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7"/>
          <a:srcRect l="57588" t="51976" r="32275" b="33273"/>
          <a:stretch/>
        </p:blipFill>
        <p:spPr>
          <a:xfrm>
            <a:off x="36939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780000" y="465300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8"/>
          <a:srcRect l="57588" t="51976" r="32275" b="33273"/>
          <a:stretch/>
        </p:blipFill>
        <p:spPr>
          <a:xfrm>
            <a:off x="2614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2700360" y="551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9"/>
          <a:srcRect l="57588" t="51976" r="32275" b="33273"/>
          <a:stretch/>
        </p:blipFill>
        <p:spPr>
          <a:xfrm>
            <a:off x="59832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684360" y="2852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0"/>
          <a:srcRect l="57588" t="51976" r="32275" b="33273"/>
          <a:stretch/>
        </p:blipFill>
        <p:spPr>
          <a:xfrm>
            <a:off x="6732720" y="350028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6818400" y="37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1"/>
          <a:srcRect l="57588" t="51976" r="32275" b="33273"/>
          <a:stretch/>
        </p:blipFill>
        <p:spPr>
          <a:xfrm>
            <a:off x="571032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5796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2"/>
          <a:srcRect l="57588" t="51976" r="32275" b="33273"/>
          <a:stretch/>
        </p:blipFill>
        <p:spPr>
          <a:xfrm>
            <a:off x="4643280" y="530064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4729320" y="55879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3"/>
          <a:srcRect l="57588" t="51976" r="32275" b="33273"/>
          <a:stretch/>
        </p:blipFill>
        <p:spPr>
          <a:xfrm>
            <a:off x="261468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270036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4"/>
          <a:srcRect l="57588" t="51976" r="32275" b="33273"/>
          <a:stretch/>
        </p:blipFill>
        <p:spPr>
          <a:xfrm>
            <a:off x="1606680" y="350208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69236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5"/>
          <a:srcRect l="57588" t="51976" r="32275" b="33273"/>
          <a:stretch/>
        </p:blipFill>
        <p:spPr>
          <a:xfrm>
            <a:off x="52560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61128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6"/>
          <a:srcRect l="57588" t="51976" r="32275" b="33273"/>
          <a:stretch/>
        </p:blipFill>
        <p:spPr>
          <a:xfrm>
            <a:off x="6732720" y="522936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681840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7"/>
          <a:srcRect l="57588" t="51976" r="32275" b="33273"/>
          <a:stretch/>
        </p:blipFill>
        <p:spPr>
          <a:xfrm>
            <a:off x="4702320" y="2565360"/>
            <a:ext cx="793440" cy="79236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78800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8"/>
          <a:srcRect l="57588" t="51976" r="32275" b="33273"/>
          <a:stretch/>
        </p:blipFill>
        <p:spPr>
          <a:xfrm>
            <a:off x="369396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3780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9"/>
          <a:srcRect l="57588" t="51976" r="32275" b="33273"/>
          <a:stretch/>
        </p:blipFill>
        <p:spPr>
          <a:xfrm>
            <a:off x="2700360" y="43657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278604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0"/>
          <a:srcRect l="57588" t="51976" r="32275" b="33273"/>
          <a:stretch/>
        </p:blipFill>
        <p:spPr>
          <a:xfrm>
            <a:off x="16192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17049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21"/>
          <a:srcRect l="57588" t="51976" r="32275" b="33273"/>
          <a:stretch/>
        </p:blipFill>
        <p:spPr>
          <a:xfrm>
            <a:off x="679140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687708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2"/>
          <a:srcRect l="57588" t="51976" r="32275" b="33273"/>
          <a:stretch/>
        </p:blipFill>
        <p:spPr>
          <a:xfrm>
            <a:off x="5710320" y="342900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5796000" y="371628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23"/>
          <a:srcRect l="57588" t="51976" r="32275" b="33273"/>
          <a:stretch/>
        </p:blipFill>
        <p:spPr>
          <a:xfrm>
            <a:off x="47023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47880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24"/>
          <a:srcRect l="57588" t="51976" r="32275" b="33273"/>
          <a:stretch/>
        </p:blipFill>
        <p:spPr>
          <a:xfrm>
            <a:off x="3622680" y="522936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708360" y="5516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5"/>
          <a:srcRect l="57588" t="51976" r="32275" b="33273"/>
          <a:stretch/>
        </p:blipFill>
        <p:spPr>
          <a:xfrm>
            <a:off x="1677960" y="256536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1763640" y="28526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6"/>
          <a:srcRect l="57588" t="51976" r="32275" b="33273"/>
          <a:stretch/>
        </p:blipFill>
        <p:spPr>
          <a:xfrm>
            <a:off x="525600" y="350208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11280" y="378936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27"/>
          <a:srcRect l="57588" t="51976" r="32275" b="33273"/>
          <a:stretch/>
        </p:blipFill>
        <p:spPr>
          <a:xfrm>
            <a:off x="6732720" y="4365720"/>
            <a:ext cx="793440" cy="792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6818400" y="465300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8"/>
          <a:srcRect l="57588" t="51976" r="32275" b="33273"/>
          <a:stretch/>
        </p:blipFill>
        <p:spPr>
          <a:xfrm>
            <a:off x="5710320" y="5302080"/>
            <a:ext cx="793800" cy="79236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5796000" y="558972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שנה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348000" y="1125360"/>
            <a:ext cx="50328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שיש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רכת חמה נאמרת ברוב עם.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תפללים שחרית בהשכמה.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ברכים את הברכה עם הראות גלגל השמש,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ולא יאוחר משלוש שעות זמניות מהזריחה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84360" y="371628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א. אפשר לברך כל היו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ב. אפשר לברך רק בבוקר מוקד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ג. אפשר לברך גם בלי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ד. אפשר לברך עד שלש שע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משימה שביעי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חרי שלש שעות מברכים בלי שם ומלכות, ויש פוסקים שמתירים לברך עם שם ומלכות עד חצות היום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מחלוקת היא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. אחרי שעת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. אחרי יומ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ג. אחרי חצ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ד. אחרי שלוש שע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משימה שמינית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פעם הבאה, אי"ה, נזכה לברך את הברכה ביום רביעי כ"ג בניסן תשצ"ז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26920" y="3645000"/>
            <a:ext cx="6840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פעם הבאה תהיה בעו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א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ב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ג. חצי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ד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ש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-3205080" y="27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624040" y="33876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קוים שנהנ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19360" y="1644480"/>
            <a:ext cx="75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כל הכבוד</a:t>
            </a:r>
            <a:br>
              <a:rPr sz="6000"/>
            </a:b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סיימת את כל המשימו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שגיאה בלחיצ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צטערים טעי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ליך להתחיל מהתחל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1447920" y="5105520"/>
            <a:ext cx="1600200" cy="1371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חץ כא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  <a:cs typeface="TapuzMF-Black"/>
              </a:rPr>
              <a:t>התחלת המשח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1905120" cy="2019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David"/>
              </a:rPr>
              <a:t>העולם נברא בששה ימ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7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ראשון - וַיִּקְרָא ... לָאוֹר יוֹם וְלַחֹשֶׁךְ קָרָא לָיְלָ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שני - יְהִי רָקִיעַ בְּתוֹךְ הַמָּיִ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שלישי - וְתֵרָאֶה הַיַּבָּשָׁה ...תּוֹצֵא הָאָרֶץ דֶּשֶׁא עֵשֶׂ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  <a:cs typeface="David"/>
              </a:rPr>
              <a:t>ביום הרביעי -  אֶת-שְׁנֵי הַמְּאֹרֹת הַגְּדֹלִ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חמישי - אֶת-הַתַּנִּינִם הַגְּדֹלִים וְאֵת כָּל-נֶפֶשׁ הַחַיָּ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ביום השישי - נֶפֶשׁ חַיָּה לְמִינָה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שימה ראשונה:</a:t>
            </a:r>
            <a:br>
              <a:rPr sz="4400"/>
            </a:b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איזה יום ברא ה' את השמ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124080"/>
            <a:ext cx="3733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2" action="ppaction://hlinksldjump"/>
              </a:rPr>
              <a:t>א. רביע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3" action="ppaction://hlinksldjump"/>
              </a:rPr>
              <a:t>ב. חמיש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4" action="ppaction://hlinksldjump"/>
              </a:rPr>
              <a:t>ג. שליש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9999"/>
                </a:solidFill>
                <a:uFillTx/>
                <a:latin typeface="Times New Roman"/>
                <a:cs typeface="Times New Roman (Hebrew)"/>
                <a:hlinkClick r:id="rId5" action="ppaction://hlinksldjump"/>
              </a:rPr>
              <a:t>ד. שנ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86120" y="0"/>
            <a:ext cx="5394240" cy="364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0240" y="-27000"/>
            <a:ext cx="3810240" cy="688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5435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27:13Z</dcterms:created>
  <dc:creator>user</dc:creator>
  <dc:description/>
  <dc:language>en-US</dc:language>
  <cp:lastModifiedBy>hnu3057</cp:lastModifiedBy>
  <dcterms:modified xsi:type="dcterms:W3CDTF">2009-03-09T14:12:34Z</dcterms:modified>
  <cp:revision>10</cp:revision>
  <dc:subject/>
  <dc:title>ברכת החמה</dc:title>
</cp:coreProperties>
</file>