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C38-AC43-422F-98C4-27C36B53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340-E234-4990-8117-01A3C995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058-114F-4D22-96E9-F13F0487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F15-6F0A-47C8-99B2-4EF98D7D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B1F-C554-4A8F-BCA5-B121F405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182-17AE-4B2A-9CD6-C24FE235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5E0-EAE8-44BC-9053-605B0ADC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67E-5E9F-4849-89BC-75CAB60F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220-D6FD-4CE3-B3D9-62112AC0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D605-85B6-4D31-95F1-74CCC6D5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6EB-18C9-4F66-9775-5BBD077B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B05-BFE9-4BDF-A588-1EED636F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F8B2-AEE8-44C0-B655-A4428D0233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קלוז על שי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השמש עו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56000" y="-762120"/>
            <a:ext cx="6048360" cy="10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914040" bIns="91404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שמש עולה _____ הדב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כמה צלולה שירתו של מחר חד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רוח סורק _____ ברוש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ילד צוחק כי נולד לשי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עצי _____ בצל האור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ריחות שבעה _____ ברו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David"/>
              </a:rPr>
              <a:t>_____ הרדוף שקמה ורות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מילים ______ כל כ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מילים שלא אשכ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עצי שקד בלובן של פריח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וכביש _____ בה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מוביל אל הזריח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עצי שקד בדרך אל עיר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" spc="-1" strike="noStrike">
                <a:solidFill>
                  <a:srgbClr val="000000"/>
                </a:solidFill>
                <a:latin typeface="Arial"/>
                <a:ea typeface="David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" spc="-1" strike="noStrike">
                <a:solidFill>
                  <a:srgbClr val="000000"/>
                </a:solidFill>
                <a:latin typeface="Arial"/>
                <a:ea typeface="David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52280" y="5946120"/>
            <a:ext cx="20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907920"/>
            <a:ext cx="4067280" cy="63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שמסתתרת לה בה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David"/>
              </a:rPr>
              <a:t>                     שמש עולה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עצי שקד בצל האור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ובושם _____ ברו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משב צונן של טרם בוק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ועצב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David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והד כל השיר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עצי שקד _____ אגד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עירי בתוך הה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לי _____ סוד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עצי שקד לך הינומת כל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וכל _____ הם של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David"/>
              </a:rPr>
              <a:t>                     שמש עולה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960" y="522360"/>
            <a:ext cx="59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              ביצוע: יהורם גאו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              מילים ולחן: מישל פוג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260280"/>
            <a:ext cx="251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260280"/>
            <a:ext cx="252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השמש עול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333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Arial"/>
              </a:rPr>
              <a:t>חצו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333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Arial"/>
              </a:rPr>
              <a:t>שק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2565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Arial"/>
              </a:rPr>
              <a:t>רקפו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97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</a:rPr>
              <a:t>ממתיק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565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</a:rPr>
              <a:t>מחלפו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4797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Arial"/>
              </a:rPr>
              <a:t>קסומו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333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Arial"/>
              </a:rPr>
              <a:t>ההרי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333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000000"/>
                </a:solidFill>
                <a:latin typeface="Arial"/>
              </a:rPr>
              <a:t>בלוב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2565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000000"/>
                </a:solidFill>
                <a:latin typeface="Arial"/>
              </a:rPr>
              <a:t>בצבע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1280" y="4797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מינים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565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000000"/>
                </a:solidFill>
                <a:latin typeface="Arial"/>
              </a:rPr>
              <a:t>שיר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4797360"/>
            <a:ext cx="3313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000000"/>
                </a:solidFill>
                <a:latin typeface="Arial"/>
              </a:rPr>
              <a:t>שיחי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2:55:32Z</dcterms:created>
  <dc:creator>נעם חיים</dc:creator>
  <dc:description/>
  <dc:language>en-US</dc:language>
  <cp:lastModifiedBy>HNU3057</cp:lastModifiedBy>
  <dcterms:modified xsi:type="dcterms:W3CDTF">2009-03-09T13:18:08Z</dcterms:modified>
  <cp:revision>6</cp:revision>
  <dc:subject/>
  <dc:title>שקופית 1</dc:title>
</cp:coreProperties>
</file>