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9C7-87F6-4EE7-BF07-AC738053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FA4-6BDC-4378-847A-176AE2B1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839-E34F-434C-BB7A-CDE145FB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C3A-1D8C-437E-A6F7-36E8A08C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1B2-FF3F-4137-B884-E4760D72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C45-6B6A-46BB-AAE1-C8750D4C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B5F-53EB-46B3-BE23-076E3A59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7C2-0E0F-4E62-9534-5970D50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30A-00B8-44F3-8D20-C44CC39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331-2579-402A-82B8-66B861A8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C59-806B-48B5-B33C-8573F7A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10E-E340-4749-92C7-E3362169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851-D84F-44BA-94E1-25B6A9765D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7656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שחק זכרו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שמש בתנ"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6000" y="344520"/>
            <a:ext cx="1989000" cy="243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אָז יְדַבֵּר יְהוֹשֻׁעַ לַה' בְּיוֹם תֵּת ה' אֶת-הָאֱמורִי לִפְנֵי בְּנֵי יִשְׂרָאֵל וַיֹּאמֶר לְעֵינֵי יִשְׂרָאֵל שֶׁמֶשׁ בְּגִבְעוֹן דּוֹם וְיָרֵחַ בְּעֵמֶק אַיָּילוֹן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9360" y="341280"/>
            <a:ext cx="1989360" cy="2478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יהושע נעזר בשמש כדי לנצח את חמשת מלכי האמור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8360" y="341280"/>
            <a:ext cx="1989360" cy="2082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כִּי שֶׁמֶשׁ וּמָגֵן ה' אֱלֹהִים חֵן וְכָבוֹד יִתֵּן  ה' לֹא יִמְנַע-טוֹב לַהֹלְכִים בְּתָמִי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000" y="2717640"/>
            <a:ext cx="1989000" cy="2449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ה' ברא את השמש וקרא לה המאור הגדו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9360" y="2717640"/>
            <a:ext cx="1989360" cy="216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וַיַּעַשׂ אֱלֹהִים אֶת-שְׁנֵי הַמְּאורות הַגְּדֹלִים  אֶת-הַמָּאוֹר הַגָּדֹל לְמֶמְשֶׁלֶת הַיּוֹם וְאֶת-הַמָּאוֹר הַקָּטֹן לְמֶמְשֶׁלֶת הַלַּיְלָה וְאֵת הַכּוֹכָבִים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2717640"/>
            <a:ext cx="198936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ה' נמשל לשמ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9000" y="5024520"/>
            <a:ext cx="1989000" cy="327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ַשֶּׁמֶשׁ יָצָא עַל-הָאָרֶץ וְלוֹט בָּא צֹעֲרָ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9360" y="5024520"/>
            <a:ext cx="1989360" cy="4068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זמנה של ברית בין הבתרי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08360" y="5024520"/>
            <a:ext cx="1989360" cy="2082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"/>
              </a:rPr>
              <a:t>וַיְהִי הַשֶּׁמֶשׁ בָּאָה וַעֲלָטָה הָיָה וְהִנֵּה תַנּוּר עָשָׁן וְלַפִּיד אֵשׁ אֲשֶׁר עָבַר בֵּין הַגְּזָרִים הָאֵלֶּה.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9000" y="7400880"/>
            <a:ext cx="1989000" cy="309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מה שהשמש אומרת בפרק שיר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9360" y="7400880"/>
            <a:ext cx="1989360" cy="234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שֶׁמֶשׁ יָרֵחַ עָמַד זְבֻלָה לְאוֹר חִצֶּיךָ יְהַלֵּכוּ לְנֹגַהּ בְּרַק חֲנִיתֶך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08360" y="7400880"/>
            <a:ext cx="1989360" cy="2775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תי לוט הגיע לצוער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000" y="203040"/>
            <a:ext cx="1989000" cy="228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ְזָרַח הַשֶּׁמֶשׁ וּבָא הַשָּׁמֶשׁ וְאֶל מְקוֹמוֹ שׁוֹאֵף זוֹרֵחַ הוּא שָׁ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9360" y="200160"/>
            <a:ext cx="1989360" cy="3760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Guttman-Aram"/>
              </a:rPr>
              <a:t>קהלת אומר שהעמל בעולם הזה אינו חשו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ttman-Ara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203040"/>
            <a:ext cx="2089080" cy="2653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מַה יִּתְרוֹן לָאָדָם בְּכָל עֲמָלוֹ שֶׁיַּעֲמֹל תַּחַת הַשָּׁמֶש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00" y="2579760"/>
            <a:ext cx="1989000" cy="2849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בעולם הזה אין כל חד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9360" y="2576520"/>
            <a:ext cx="198936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מַה שֶּׁהָיָה הוּא שֶׁיִּהְיֶה וּמַה שֶּׁנַּעֲשָׂה הוּא שֶׁיֵּעָשֶׂה וְאֵין כָּל חָדָשׁ תַּחַת הַשָּׁמֶש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8640" y="2579760"/>
            <a:ext cx="2089080" cy="2849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השמש חוזרת למקומה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9000" y="4973760"/>
            <a:ext cx="1989000" cy="1831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לְךָ יוֹם אַף לְךָ לָיְלָה אַתָּה הֲכִינוֹתָ מָאוֹר  וָשָׁמֶש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2360" y="4970520"/>
            <a:ext cx="1989360" cy="3458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זמנה של תפילת שחרי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1640" y="4973760"/>
            <a:ext cx="2089080" cy="2561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יִירָאוּךָ עִם שָׁמֶשׁ וְלִפְנֵי יָרֵחַ דּוֹר דּוֹרִי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9000" y="7350120"/>
            <a:ext cx="198900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הצדקה נמשלה לשמ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22360" y="7346880"/>
            <a:ext cx="1989360" cy="2254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ְזָרְחָה לָכֶם יִרְאֵי שְׁמִי שֶׁמֶשׁ צְדָקָה וּמַרְפֵּא בִּכְנָפֶיה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81640" y="7350120"/>
            <a:ext cx="20890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התורה נמשלה לשמ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000" y="203040"/>
            <a:ext cx="1989000" cy="243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וַיִּירְשׁוּ אֶת-אַרְצוֹ וְאֶת-אֶרֶץ עוֹג מֶלֶךְ-הַבָּשָׁן, שְׁנֵי מַלְכֵי הָאֱמורִי, אֲשֶׁר, בְּעֵבֶר הַיַּרְדֵּן--מִזְרַח, שָׁמֶש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200160"/>
            <a:ext cx="1989360" cy="2775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rial Unicode MS"/>
              </a:rPr>
              <a:t>מקום ערי המקל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8640" y="203040"/>
            <a:ext cx="2089080" cy="1974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אָז יַבְדִּיל מֹשֶׁה שָׁלֹשׁ עָרִים, בְּעֵבֶר הַיַּרְדֵּן, מִזְרְחָה, שָׁמֶש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2579760"/>
            <a:ext cx="198900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ברכת משה רבנו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9360" y="2576520"/>
            <a:ext cx="1989360" cy="2113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ּמִמֶּגֶד, תְּבוּאֹת שָׁמֶשׁ; וּמִמֶּגֶד, גֶּרֶשׁ יְרָחִי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8640" y="2579760"/>
            <a:ext cx="2089080" cy="2849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קום שני מלכי האמור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9000" y="4973760"/>
            <a:ext cx="1989000" cy="2705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ְנָסַב הַגְּבוּל מִבַּעֲלָה יָמָּה, אֶל-הַר שֵׂעִיר, וְעָבַר אֶל-כֶּתֶף הַר-יְעָרִים מִצָּפוֹנָה, הִיא כְסָלוֹן; וְיָרַד בֵּית-שֶׁמֶשׁ, וְעָבַר תִּמְנָ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22360" y="4970520"/>
            <a:ext cx="1989360" cy="2574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rial Unicode MS"/>
              </a:rPr>
              <a:t>יישוב ליד מעלה אדומי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1640" y="4973760"/>
            <a:ext cx="2089080" cy="2071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rial"/>
              </a:rPr>
              <a:t>וְעָלָה הַגְּבוּל דְּבִרָה, מֵעֵמֶק עָכוֹר, וְצָפוֹנָה פֹּנֶה אֶל-הַגִּלְגָּל אֲשֶׁר-נֹכַח לְמַעֲלֵה אֲדֻמִּים, אֲשֶׁר מִנֶּגֶב לַנָּחַל; וְעָבַר הַגְּבוּל אֶל-מֵי-עֵין שֶׁמֶשׁ, וְהָיוּ תוצְאותָיו אֶל-עֵין רֹגֵל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00" y="7350120"/>
            <a:ext cx="1989000" cy="312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יישוב ליד צרעה ואשתעו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7350120"/>
            <a:ext cx="2089080" cy="21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שם של עיר ידועה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76640" y="7400880"/>
            <a:ext cx="1989000" cy="1974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וַיְהִי, גְּבוּל נַחֲלָתָם--צָרְעָה וְאֶשְׁתָּאוֹל, וְעִיר שָׁמֶש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6000" y="203040"/>
            <a:ext cx="1989000" cy="192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המקום אליו הגיע ארון הברית אחרי המלחמה עם פלישת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9360" y="150840"/>
            <a:ext cx="1989360" cy="2157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ַיִּשַּׁרְנָה הַפָּרוֹת בַּדֶּרֶךְ, עַל-דֶּרֶךְ בֵּית שֶׁמֶשׁ, בִּמְסִלָּה אַחַת הָלְכוּ הָלֹךְ וְגָעוֹ, וְלֹא-סָרוּ יָמִין וּשְׂמֹא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9000" y="34128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9360" y="34128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08360" y="34128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000" y="271764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9360" y="271764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08360" y="271764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9000" y="502452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9360" y="502452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08360" y="502452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9000" y="7400880"/>
            <a:ext cx="198900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9360" y="7400880"/>
            <a:ext cx="1989360" cy="2121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08360" y="7400880"/>
            <a:ext cx="198936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0280" y="754524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92280" y="754524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24280" y="754524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33360" y="516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492280" y="516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53000" y="516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33360" y="286560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2492280" y="286560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724280" y="293688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3360" y="56052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21000" y="48888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4724280" y="560520"/>
            <a:ext cx="1825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0:38:33Z</dcterms:created>
  <dc:creator>avia.alb</dc:creator>
  <dc:description/>
  <dc:language>en-US</dc:language>
  <cp:lastModifiedBy>hnu3057</cp:lastModifiedBy>
  <dcterms:modified xsi:type="dcterms:W3CDTF">2009-03-09T13:34:15Z</dcterms:modified>
  <cp:revision>15</cp:revision>
  <dc:subject/>
  <dc:title>שקופית 1</dc:title>
</cp:coreProperties>
</file>