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68D-410C-4FB6-A06E-061FCA36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919-73D3-4EBC-893C-42E8685D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611-B36A-4643-8E45-4D81D4FA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FE9-BB05-4871-A154-A249537E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2565-1F83-443B-8C06-15EDF931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39C3-EBCA-4703-A967-6412CCA2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EF74-46C2-47D9-8ED3-ECAE4E67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D95A-46DE-44A8-8641-9F017BE5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DC0B-C87A-4127-9211-593E283D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01B9-48CB-4344-9F24-E9A3C615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2775-90D7-468D-8DC0-E25FE429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839-FA18-493F-A83A-710613F3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800B-84BE-430C-8E6B-4719981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BA76-D107-4B1E-A619-A8019A9B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C3A2-CF50-4A3B-93C7-FF03355F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3636-3F0E-458F-9081-D4E2C4BB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2415-E96F-4B30-AC3E-DD38E353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91B-F5C7-4628-842C-97146072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8EB-1AFC-4803-BDE6-65C445A2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CAB-9DBC-423D-A524-4720D979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77B-E888-4FC6-BE20-6E77679B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4CC-1ADF-4028-B3A1-3937DA6B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879-FBBD-4CA8-B5C8-4671CBC5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2F3-64B1-4395-A852-A366E72D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3B15-C030-4FF9-B7F6-6568DD760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1EEE-D17A-4340-A31E-B7D07E5B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מדרש תמונ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על ברכת החמ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תבונן בתמונה וענה על השאל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יכן נמצא האדם המברך? (במקום גבוה/נמוך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אם הוא מתפלל אל השמ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יכן רמוז בציור שהאדם סיים תפילת שחרית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אם הילד יודע את נוסח הברכה בעל פ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מה מועילה השמש לדברים שבציו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אם השמש מצוירת לפי ההלכ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09:28Z</dcterms:created>
  <dc:creator>hnu3057</dc:creator>
  <dc:description/>
  <dc:language>en-US</dc:language>
  <cp:lastModifiedBy>hnu3057</cp:lastModifiedBy>
  <dcterms:modified xsi:type="dcterms:W3CDTF">2009-03-09T13:09:59Z</dcterms:modified>
  <cp:revision>2</cp:revision>
  <dc:subject/>
  <dc:title>מדרש תמונה</dc:title>
</cp:coreProperties>
</file>